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88628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306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306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306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4398840" y="9555120"/>
            <a:ext cx="32306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A2E31-7503-4E40-A3D6-1D501C190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7680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480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460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696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220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696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220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ts val="6375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1400"/>
            <a:ext cx="474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ts val="6375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460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59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.laptop.org/go/XO_Troubleshooting_Guide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ists.laptop.org/" TargetMode="External"/><Relationship Id="rId2" Type="http://schemas.openxmlformats.org/officeDocument/2006/relationships/hyperlink" Target="http://wiki.laptop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iki.laptop.org/go/Releas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reuben@laptop.org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laptop.org/go/Deployment_Guide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,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2112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1219320"/>
            <a:ext cx="1066680" cy="900000"/>
            <a:chOff x="1600200" y="1219320"/>
            <a:chExt cx="1066680" cy="900000"/>
          </a:xfrm>
        </p:grpSpPr>
        <p:sp>
          <p:nvSpPr>
            <p:cNvPr id="275" name=""/>
            <p:cNvSpPr/>
            <p:nvPr/>
          </p:nvSpPr>
          <p:spPr>
            <a:xfrm>
              <a:off x="1600200" y="121932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0200" y="129528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00200" y="2286000"/>
            <a:ext cx="1066680" cy="824040"/>
            <a:chOff x="1600200" y="2286000"/>
            <a:chExt cx="1066680" cy="824040"/>
          </a:xfrm>
        </p:grpSpPr>
        <p:sp>
          <p:nvSpPr>
            <p:cNvPr id="278" name=""/>
            <p:cNvSpPr/>
            <p:nvPr/>
          </p:nvSpPr>
          <p:spPr>
            <a:xfrm>
              <a:off x="1600200" y="236232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0200" y="228600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962520" y="2666880"/>
            <a:ext cx="1066680" cy="824040"/>
            <a:chOff x="3962520" y="2666880"/>
            <a:chExt cx="1066680" cy="824040"/>
          </a:xfrm>
        </p:grpSpPr>
        <p:sp>
          <p:nvSpPr>
            <p:cNvPr id="281" name=""/>
            <p:cNvSpPr/>
            <p:nvPr/>
          </p:nvSpPr>
          <p:spPr>
            <a:xfrm>
              <a:off x="3962520" y="274320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66688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05320" y="1828800"/>
            <a:ext cx="1218960" cy="685800"/>
            <a:chOff x="3505320" y="1828800"/>
            <a:chExt cx="1218960" cy="685800"/>
          </a:xfrm>
        </p:grpSpPr>
        <p:sp>
          <p:nvSpPr>
            <p:cNvPr id="288" name=""/>
            <p:cNvSpPr/>
            <p:nvPr/>
          </p:nvSpPr>
          <p:spPr>
            <a:xfrm>
              <a:off x="3581280" y="1828800"/>
              <a:ext cx="1067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5320" y="1981080"/>
              <a:ext cx="1218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6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V="1">
            <a:off x="2743200" y="1201680"/>
            <a:ext cx="1219320" cy="3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67080" y="2496600"/>
            <a:ext cx="180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76920" y="1582200"/>
            <a:ext cx="1440" cy="117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33720" y="3030120"/>
            <a:ext cx="144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3200400"/>
            <a:ext cx="137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6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6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066680" y="1506600"/>
            <a:ext cx="457200" cy="3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Team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Deployment_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024440" y="1828800"/>
            <a:ext cx="595080" cy="565200"/>
            <a:chOff x="4024440" y="1828800"/>
            <a:chExt cx="595080" cy="56520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470480" y="208584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04920" y="1905120"/>
            <a:ext cx="595080" cy="565200"/>
            <a:chOff x="304920" y="1905120"/>
            <a:chExt cx="595080" cy="56520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50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0960" y="216216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28800" y="1949400"/>
            <a:ext cx="593640" cy="565200"/>
            <a:chOff x="1828800" y="1949400"/>
            <a:chExt cx="593640" cy="56520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73400" y="220680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932280" y="2468520"/>
            <a:ext cx="595440" cy="565200"/>
            <a:chOff x="3932280" y="2468520"/>
            <a:chExt cx="595440" cy="565200"/>
          </a:xfrm>
        </p:grpSpPr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378320" y="2725560"/>
              <a:ext cx="149400" cy="1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246480" y="2606760"/>
            <a:ext cx="595440" cy="565200"/>
            <a:chOff x="3246480" y="2606760"/>
            <a:chExt cx="595440" cy="56520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692520" y="2863800"/>
              <a:ext cx="1494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25920" y="2103480"/>
            <a:ext cx="595440" cy="565200"/>
            <a:chOff x="4525920" y="2103480"/>
            <a:chExt cx="595440" cy="565200"/>
          </a:xfrm>
        </p:grpSpPr>
        <p:pic>
          <p:nvPicPr>
            <p:cNvPr id="170" name="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971960" y="2360520"/>
              <a:ext cx="1494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/Rou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19080" y="2549160"/>
            <a:ext cx="3999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521160" y="914400"/>
            <a:ext cx="1508040" cy="565200"/>
            <a:chOff x="3521160" y="914400"/>
            <a:chExt cx="1508040" cy="565200"/>
          </a:xfrm>
        </p:grpSpPr>
        <p:grpSp>
          <p:nvGrpSpPr>
            <p:cNvPr id="182" name=""/>
            <p:cNvGrpSpPr/>
            <p:nvPr/>
          </p:nvGrpSpPr>
          <p:grpSpPr>
            <a:xfrm>
              <a:off x="3521160" y="914400"/>
              <a:ext cx="593640" cy="565200"/>
              <a:chOff x="3521160" y="914400"/>
              <a:chExt cx="593640" cy="565200"/>
            </a:xfrm>
          </p:grpSpPr>
          <p:pic>
            <p:nvPicPr>
              <p:cNvPr id="1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39654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978360" y="914400"/>
              <a:ext cx="593640" cy="565200"/>
              <a:chOff x="3978360" y="914400"/>
              <a:chExt cx="593640" cy="565200"/>
            </a:xfrm>
          </p:grpSpPr>
          <p:pic>
            <p:nvPicPr>
              <p:cNvPr id="1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226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433760" y="914400"/>
              <a:ext cx="595440" cy="565200"/>
              <a:chOff x="4433760" y="914400"/>
              <a:chExt cx="595440" cy="565200"/>
            </a:xfrm>
          </p:grpSpPr>
          <p:pic>
            <p:nvPicPr>
              <p:cNvPr id="1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400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8798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3490920" y="1477800"/>
            <a:ext cx="1508040" cy="565200"/>
            <a:chOff x="3490920" y="1477800"/>
            <a:chExt cx="1508040" cy="565200"/>
          </a:xfrm>
        </p:grpSpPr>
        <p:grpSp>
          <p:nvGrpSpPr>
            <p:cNvPr id="192" name=""/>
            <p:cNvGrpSpPr/>
            <p:nvPr/>
          </p:nvGrpSpPr>
          <p:grpSpPr>
            <a:xfrm>
              <a:off x="3490920" y="1477800"/>
              <a:ext cx="595440" cy="565200"/>
              <a:chOff x="3490920" y="1477800"/>
              <a:chExt cx="595440" cy="565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3936960" y="173520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948120" y="1477800"/>
              <a:ext cx="593640" cy="565200"/>
              <a:chOff x="3948120" y="1477800"/>
              <a:chExt cx="593640" cy="565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92720" y="1735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4405320" y="1477800"/>
              <a:ext cx="593640" cy="565200"/>
              <a:chOff x="4405320" y="1477800"/>
              <a:chExt cx="593640" cy="565200"/>
            </a:xfrm>
          </p:grpSpPr>
          <p:pic>
            <p:nvPicPr>
              <p:cNvPr id="1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849920" y="1735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3124080" y="1981080"/>
            <a:ext cx="1509840" cy="565200"/>
            <a:chOff x="3124080" y="1981080"/>
            <a:chExt cx="1509840" cy="565200"/>
          </a:xfrm>
        </p:grpSpPr>
        <p:grpSp>
          <p:nvGrpSpPr>
            <p:cNvPr id="202" name=""/>
            <p:cNvGrpSpPr/>
            <p:nvPr/>
          </p:nvGrpSpPr>
          <p:grpSpPr>
            <a:xfrm>
              <a:off x="3124080" y="1981080"/>
              <a:ext cx="595440" cy="565200"/>
              <a:chOff x="3124080" y="1981080"/>
              <a:chExt cx="595440" cy="565200"/>
            </a:xfrm>
          </p:grpSpPr>
          <p:pic>
            <p:nvPicPr>
              <p:cNvPr id="20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35701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581280" y="1981080"/>
              <a:ext cx="595440" cy="565200"/>
              <a:chOff x="3581280" y="1981080"/>
              <a:chExt cx="595440" cy="5652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40273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038480" y="1981080"/>
              <a:ext cx="595440" cy="565200"/>
              <a:chOff x="4038480" y="1981080"/>
              <a:chExt cx="595440" cy="5652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44845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20 Laptops / Access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Serv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368000" y="1155600"/>
            <a:ext cx="173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143000" y="2743200"/>
            <a:ext cx="1509840" cy="563400"/>
            <a:chOff x="1143000" y="2743200"/>
            <a:chExt cx="1509840" cy="563400"/>
          </a:xfrm>
        </p:grpSpPr>
        <p:grpSp>
          <p:nvGrpSpPr>
            <p:cNvPr id="216" name=""/>
            <p:cNvGrpSpPr/>
            <p:nvPr/>
          </p:nvGrpSpPr>
          <p:grpSpPr>
            <a:xfrm>
              <a:off x="1143000" y="2743200"/>
              <a:ext cx="595440" cy="563400"/>
              <a:chOff x="1143000" y="2743200"/>
              <a:chExt cx="595440" cy="56340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5890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600200" y="2743200"/>
              <a:ext cx="595440" cy="563400"/>
              <a:chOff x="1600200" y="2743200"/>
              <a:chExt cx="595440" cy="563400"/>
            </a:xfrm>
          </p:grpSpPr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20462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057400" y="2743200"/>
              <a:ext cx="595440" cy="563400"/>
              <a:chOff x="2057400" y="2743200"/>
              <a:chExt cx="595440" cy="563400"/>
            </a:xfrm>
          </p:grpSpPr>
          <p:pic>
            <p:nvPicPr>
              <p:cNvPr id="2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25034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3549600" y="1630440"/>
            <a:ext cx="1509840" cy="565200"/>
            <a:chOff x="3549600" y="1630440"/>
            <a:chExt cx="1509840" cy="565200"/>
          </a:xfrm>
        </p:grpSpPr>
        <p:grpSp>
          <p:nvGrpSpPr>
            <p:cNvPr id="226" name=""/>
            <p:cNvGrpSpPr/>
            <p:nvPr/>
          </p:nvGrpSpPr>
          <p:grpSpPr>
            <a:xfrm>
              <a:off x="3549600" y="1630440"/>
              <a:ext cx="595440" cy="565200"/>
              <a:chOff x="3549600" y="1630440"/>
              <a:chExt cx="595440" cy="5652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9956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006800" y="1630440"/>
              <a:ext cx="595440" cy="565200"/>
              <a:chOff x="4006800" y="1630440"/>
              <a:chExt cx="595440" cy="565200"/>
            </a:xfrm>
          </p:grpSpPr>
          <p:pic>
            <p:nvPicPr>
              <p:cNvPr id="2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44528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464000" y="1630440"/>
              <a:ext cx="595440" cy="565200"/>
              <a:chOff x="4464000" y="1630440"/>
              <a:chExt cx="595440" cy="5652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49100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505320" y="2224080"/>
            <a:ext cx="1508040" cy="565200"/>
            <a:chOff x="3505320" y="2224080"/>
            <a:chExt cx="1508040" cy="565200"/>
          </a:xfrm>
        </p:grpSpPr>
        <p:grpSp>
          <p:nvGrpSpPr>
            <p:cNvPr id="236" name=""/>
            <p:cNvGrpSpPr/>
            <p:nvPr/>
          </p:nvGrpSpPr>
          <p:grpSpPr>
            <a:xfrm>
              <a:off x="3505320" y="2224080"/>
              <a:ext cx="595080" cy="565200"/>
              <a:chOff x="3505320" y="2224080"/>
              <a:chExt cx="595080" cy="5652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951360" y="2481120"/>
                <a:ext cx="1490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962520" y="2224080"/>
              <a:ext cx="593640" cy="565200"/>
              <a:chOff x="3962520" y="2224080"/>
              <a:chExt cx="593640" cy="565200"/>
            </a:xfrm>
          </p:grpSpPr>
          <p:pic>
            <p:nvPicPr>
              <p:cNvPr id="2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4406760" y="2481120"/>
                <a:ext cx="14940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419720" y="2224080"/>
              <a:ext cx="593640" cy="565200"/>
              <a:chOff x="4419720" y="2224080"/>
              <a:chExt cx="593640" cy="565200"/>
            </a:xfrm>
          </p:grpSpPr>
          <p:pic>
            <p:nvPicPr>
              <p:cNvPr id="24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863960" y="2481120"/>
                <a:ext cx="14940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2971800" y="2863800"/>
            <a:ext cx="1508040" cy="565200"/>
            <a:chOff x="2971800" y="2863800"/>
            <a:chExt cx="1508040" cy="565200"/>
          </a:xfrm>
        </p:grpSpPr>
        <p:grpSp>
          <p:nvGrpSpPr>
            <p:cNvPr id="246" name=""/>
            <p:cNvGrpSpPr/>
            <p:nvPr/>
          </p:nvGrpSpPr>
          <p:grpSpPr>
            <a:xfrm>
              <a:off x="2971800" y="2863800"/>
              <a:ext cx="595440" cy="565200"/>
              <a:chOff x="2971800" y="2863800"/>
              <a:chExt cx="595440" cy="565200"/>
            </a:xfrm>
          </p:grpSpPr>
          <p:pic>
            <p:nvPicPr>
              <p:cNvPr id="24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3417840" y="312120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429000" y="2863800"/>
              <a:ext cx="593640" cy="565200"/>
              <a:chOff x="3429000" y="2863800"/>
              <a:chExt cx="593640" cy="565200"/>
            </a:xfrm>
          </p:grpSpPr>
          <p:pic>
            <p:nvPicPr>
              <p:cNvPr id="25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3873600" y="3121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886200" y="2863800"/>
              <a:ext cx="593640" cy="565200"/>
              <a:chOff x="3886200" y="2863800"/>
              <a:chExt cx="593640" cy="565200"/>
            </a:xfrm>
          </p:grpSpPr>
          <p:pic>
            <p:nvPicPr>
              <p:cNvPr id="25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4330800" y="3121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V="1">
            <a:off x="2163600" y="1476360"/>
            <a:ext cx="41148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09680" y="1887120"/>
            <a:ext cx="68580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56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332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7472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506240" y="1522440"/>
            <a:ext cx="3999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30-40 laptops per 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RF site survey and carefully designed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/>
  <cp:revision>0</cp:revision>
  <dc:subject/>
  <dc:title>One Laptop per Child</dc:title>
</cp:coreProperties>
</file>